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B3DF-CE7F-4973-AE65-10318850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87E9-80C8-41AA-8366-AEEA67EC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7DAAD-9000-4187-8FAD-A819C65C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5B7F6-7016-4BC4-9F06-B933A1A7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2C492-0EDB-42D0-81D3-83AF742B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313C0-1DEB-422F-BCB9-B9076EC3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7FADE-9DE0-4876-91F3-7A2A44D9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9A546-45E6-49EC-A14D-32C32A8C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C0247-AFD9-4863-8899-4A32806F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06B49-A891-4806-B47B-1762A5A4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9F675-AB1A-4CF6-B555-935CB1BC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B7EC9-0778-4E06-B639-B3FA444D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462A-8A65-4AA7-8B55-9FDC8ADC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50A1E-CA38-43D3-AF2A-EEB37903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38598-0BA3-42AE-BCC2-7B7ABB54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5C26B-BCD3-4DAA-8EB1-77247DD6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D2A83-3168-472C-B036-F1193EE3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58208-0B3C-4219-B1D3-A4B06349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94D08-7714-4A45-84A8-24F1BD2F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F7890-D6B4-47A7-B9B2-89EF2114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2E53C-4C0F-4780-A474-6A0EFE1F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2A818-81A1-4899-9C1D-749D36E6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C0A55-0717-45B2-8B45-9B7ED419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23C1-5F88-402A-A7E4-23EA0A67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ECFDF-217C-4294-898A-9EFC62EE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2EE4-8C23-4798-843D-432AC91D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57B2-2D08-4592-B172-90789F8E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7118-B021-404F-BCD0-BA9328CA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CCA9-AED0-4ADC-AEBC-7D36461F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181B-610C-4C61-AE68-A9772DC9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FA2E-A5CC-4D99-B67C-9DE38466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C518-8462-4B30-89EB-EC907556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227C-C350-4127-9C7A-DA1F9549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9BEE-6CE3-4EB7-B934-C049FAC3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E293-C5B4-4C04-92FA-7ABD1405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7CAA-401E-4467-B187-BFD99C76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5074-B868-4C43-BE36-5F3BE41E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33D7-E22D-4673-8BC5-F874177D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84511-2519-4BF1-AB4F-1B4EF9F5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F3750-7C14-4D79-94F3-4AA9E739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C79C9-9B4E-4116-A484-70B37D97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9CABD-93C6-4F56-9697-23DDE63C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E2DF3-B214-45F2-987A-D9CFDA20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ABE7-3047-4679-AE88-C029EAEF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30675-56FE-4C73-9875-D936100D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30C41-09C5-4A00-8F24-953C9563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EE922-5400-4C64-9683-1272C58C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4BEF3-E1B1-469D-894C-5D3A731E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16F32-6758-4A08-B7DE-3CDAD212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48FEF-48D9-4C5D-9A0B-13EA0ACA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B8FCD-AA88-408D-A0F6-AC4C1D9D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EF4C0-4695-4E01-8630-CDDD06F5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0174A-392E-474E-9977-5A8F31B6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87C42-3674-4662-8488-0EEA368F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0C93-FA9B-4EB5-95C7-4715A6BD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571CC-9F68-459A-B808-C579A0C1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4C89A-2595-4B7E-9B81-09B8E6CC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638A0-7C76-43EB-93A3-2895764E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4577E-D2E0-46CE-84D0-978BEF6C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49E1E-EFDA-44E0-A871-59A42541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BC426-5A82-49E9-93DC-BA37E68D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BFE54-C39D-4AEF-BC23-489BBC03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5E0A3-DF31-44F4-9245-F0CAE5A8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E8A99-CFBD-4C7E-A4DA-B917A397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FF066-0316-43DC-AB86-114AE915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E551-B5A5-4FA9-ABAC-452E1F39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BC26B-43E2-4392-97F9-8C9DE98C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B8C2C-5650-47F8-BF88-D61CCB92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FCCC8-B209-41B3-AD51-6FDF3620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F45F7-718E-41DB-BB1E-4143FA0B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99354-A688-4E8E-8167-311BB0DC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03A1D-5B6D-480B-BEE3-71CD2663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FEAFC-5BE4-4A7D-B8F2-97A279DA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2A15E-609F-4EC0-B7EF-C19C3C49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5922F-6105-44F8-A3A3-6612011E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B8D4B-2665-400B-A6EA-279D8648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B8E7-1DB5-4055-802E-85863CF8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1549D-1CD4-45AF-91E4-6CD3DE97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07E00-F886-4208-92F4-33CE8721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29DC2-51A0-4547-A326-78153C45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B01D7-E875-47BC-8832-C05DD436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67896-C3E9-4976-AF6D-D1C3662E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5D891-E32D-47DD-98BB-9D35DC7A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30C2E-4F25-4AFB-B3FD-1103D89D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E71F2-53D0-4763-A32B-5E0B9E55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06B29-5A0A-4E39-AE4C-47A598F8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4EA49-50C8-448C-8F37-059633B3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CA6-3448-4C79-88CA-703D301D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14050-5F76-453F-A1D2-FD5C6883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31EEB-061D-4567-BA60-EB29DEEA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4F203-E2AE-4FE8-8D82-33C98544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18D05-8D6D-47D2-A997-65FB36BE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A43AB-806A-48CC-90E6-D4CB340F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D4D03-25DD-4EA2-9F7C-3F67EBC5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70B0A-8032-4013-A6BA-3F55DD21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5FAFE-D891-4AB1-B181-390A9305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45574-0883-44F5-A671-D9259B07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D1770-D5E1-4DE7-A879-356135D7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D747-52EF-4022-A7EF-C74468A6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A340B-1BBB-48DD-A6C1-B13EF107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776F8-122E-4F67-B9E3-7EB19C2D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52B7C-1AAD-4E79-9508-DF8C62C3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30126-F613-4E8A-8460-41C437BB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83B64-D3AD-4889-B83C-6787ED6D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74B61-246B-4551-9ECF-772300E4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27E35-6051-426D-AAF2-A66F056F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76433-5D28-4778-9FA2-431E9B88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8BB8A-DD65-4B76-844A-CC55C76D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C2E1D-19C7-4D42-A21A-E0E09274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7A3-45EB-42BC-B440-47A84C43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7D497-DEAE-4260-9A6B-F6685DFA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25AD7-6CBE-4881-B15C-F8E8301B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E198E-FB0E-403C-A366-057D873A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01DCB-E170-49A7-9493-1C2CD245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C5FD6-7338-4651-B745-EF8714D6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700A0-CD45-4545-99CD-80EECBC1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EAA41-36D4-41C6-876C-D94E2349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3CEA6-298B-4AEB-9792-BC1B0331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84CCF-2267-46ED-8AF7-B9580799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DC8C0-AC09-415A-9746-6B2E3333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D0DF-430B-46F5-A665-46FAFB8F658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8F7A-0489-42C2-B934-BC371360ED8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4D16-974F-4FD2-8F35-FAF54782262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8B8C-EA85-474E-AB29-F476255FF41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AB10-75C5-465B-9BCE-0FE45B6D3BF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303D-6DB8-4C8B-9135-7106A4D1873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2F1E-48DB-42B2-B17D-6F6C0789C28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30B6-8FC0-49FD-8CE5-171DAA6714D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456E-D69F-428B-86D9-F800F11E141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5441-957F-418C-92B7-E7DB3B9C869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7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어디에 가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디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를 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말을 공부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슬리퍼리록 대학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사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청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다나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디에 가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시내에 갑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다나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시내에서 무엇을 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친구를 만납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시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ownt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친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fri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만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ere; inte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디에 갑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디에서 일하십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병원이 어디에 있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o ~, at ~; postposition denoting time or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10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시에 학교에 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일요일에도 회사에 갑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내일 미국에 갑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at ~; postposition denoting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교실에서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을 시장에서 샀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여자는 은행에서 일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부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usan (Pusan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병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hospit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우체국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ost offi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학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극장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hea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일하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다방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offee shop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장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청역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he city hall st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은행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식당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하숙집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oarding hou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식사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e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도서관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백화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department sto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과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rui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학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institut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갑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부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 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디에 가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갑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중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병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체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숙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집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사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극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을 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백화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을 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12T14:35:59Z</dcterms:modified>
  <cp:revision>97</cp:revision>
  <dc:subject/>
  <dc:title>KOREAN LANGUAGE</dc:title>
</cp:coreProperties>
</file>